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7.png" ContentType="image/pn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B738-B1D6-4916-B4E4-AC619FB09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anecdote: Review of African cultures and civilizations, such as Mansa Musa and Great Zimbab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757C-5F41-4128-BF43-4C7559EF6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8B7-13A8-4FC8-871F-D025064E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C82-9445-48F4-B3F8-EC7A000A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AC7-A3BA-4426-9E24-9FFED65A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42B-670A-4557-86AA-8F043BE1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251-E40E-4C69-AB5E-A6A627C8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E38-19B3-4A5B-BFDF-B6A17C5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77A-0485-4FAC-AA36-FC05C7C9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C7B-DCA3-4575-A45E-16534AE4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71C-77A5-4001-8FB4-AFD88612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B3D-4127-4337-9894-0BEC23A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109-E570-4B2D-A5B1-A833C35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990-5BCA-4D38-80B4-A2F92E5C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49E7-155E-4AF3-9F17-AE9D6BC24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upload.wikimedia.org/wikipedia/commons/e/ec/Punch_Rhodes_Colossus.png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6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HP_Administrator\Local Settings\Temporary Internet Files\Content.IE5\KCMO3X1V\MCj04352490000[1].png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52320" y="6854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go Wide"/>
              </a:rPr>
              <a:t>The Scramble for Afric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6095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© Student Handouts, Inc.                www.studenthandouts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Documents and Settings\HP_Administrator\Local Settings\Temporary Internet Files\Content.IE5\KCMO3X1V\MCj04349770000[1].wmf"/>
          <p:cNvPicPr/>
          <p:nvPr/>
        </p:nvPicPr>
        <p:blipFill>
          <a:blip r:embed="rId2"/>
          <a:stretch/>
        </p:blipFill>
        <p:spPr>
          <a:xfrm>
            <a:off x="533520" y="3886200"/>
            <a:ext cx="1844640" cy="159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HP_Administrator\Local Settings\Temporary Internet Files\Content.IE5\TS29IT8V\MCj04350070000[1].wmf"/>
          <p:cNvPicPr/>
          <p:nvPr/>
        </p:nvPicPr>
        <p:blipFill>
          <a:blip r:embed="rId3"/>
          <a:stretch/>
        </p:blipFill>
        <p:spPr>
          <a:xfrm>
            <a:off x="3733920" y="3962520"/>
            <a:ext cx="1746000" cy="197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Documents and Settings\HP_Administrator\Local Settings\Temporary Internet Files\Content.IE5\R7IF5PO3\MCj04350030000[1].wmf"/>
          <p:cNvPicPr/>
          <p:nvPr/>
        </p:nvPicPr>
        <p:blipFill>
          <a:blip r:embed="rId4"/>
          <a:stretch/>
        </p:blipFill>
        <p:spPr>
          <a:xfrm>
            <a:off x="6781680" y="3657600"/>
            <a:ext cx="1521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CIL RHODES (1853-190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ile:Punch Rhodes Colossus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34000" y="1143000"/>
            <a:ext cx="44100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upload.wikimedia.org/wikipedia/commons/f/f9/CecilRhodes.jpg"/>
          <p:cNvPicPr/>
          <p:nvPr/>
        </p:nvPicPr>
        <p:blipFill>
          <a:blip r:embed="rId4"/>
          <a:stretch/>
        </p:blipFill>
        <p:spPr>
          <a:xfrm>
            <a:off x="1752480" y="1600200"/>
            <a:ext cx="249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upload.wikimedia.org/wikipedia/commons/thumb/3/39/Leopold_ii_garter_knight.jpg/210px-Leopold_ii_garter_knight.jpg"/>
          <p:cNvPicPr/>
          <p:nvPr/>
        </p:nvPicPr>
        <p:blipFill>
          <a:blip r:embed="rId2"/>
          <a:stretch/>
        </p:blipFill>
        <p:spPr>
          <a:xfrm>
            <a:off x="7315200" y="350532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3" descr="004.JPG"/>
          <p:cNvPicPr/>
          <p:nvPr/>
        </p:nvPicPr>
        <p:blipFill>
          <a:blip r:embed="rId3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ING LEOPOLD II OF BELGIUM (1835-190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Took over land in central Af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Berlin Conference (188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control over Congo Free State recognized by major p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Belgian Congo (190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 criticized for the cruelty of his rule in the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opold forced to sell Congo Free State to Belgian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named Belgian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Created European race for African colonies – </a:t>
            </a:r>
            <a:r>
              <a:rPr b="1" lang="ja-JP" sz="27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Scramble for Africa</a:t>
            </a:r>
            <a:r>
              <a:rPr b="1" lang="ja-JP" sz="2700" spc="-1" strike="noStrike">
                <a:solidFill>
                  <a:srgbClr val="595959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monds, foodstuffs, gold, ivory, rub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TISH IN SOUTHER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8960" y="10666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15 – British took Cape Colony from the Du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ers moved n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v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86 – gold discovered and British moved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81 and 1895 – British attempted to take Transvaal from the Bo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ange Fre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Boer War (1899-189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tch led by President Paul Kru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w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ON OF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in 19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Cape Colony, Orange Free State, Natal, and Transv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HP_Administrator\Local Settings\Temporary Internet Files\Content.IE5\C23N0BHR\MCj01894390000[1].jpg"/>
          <p:cNvPicPr/>
          <p:nvPr/>
        </p:nvPicPr>
        <p:blipFill>
          <a:blip r:embed="rId3"/>
          <a:stretch/>
        </p:blipFill>
        <p:spPr>
          <a:xfrm>
            <a:off x="4952880" y="4114800"/>
            <a:ext cx="3645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LONIES IN SOUTHER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hodesia (now Zimbabw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med for Cecil Rh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th of Union of South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Bechuanaland (now Botsw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85 – became a British prote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Ke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888 – became a British prote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upload.wikimedia.org/wikipedia/commons/0/03/SouthAfrica1885.jpg"/>
          <p:cNvPicPr/>
          <p:nvPr/>
        </p:nvPicPr>
        <p:blipFill>
          <a:blip r:embed="rId1"/>
          <a:stretch/>
        </p:blipFill>
        <p:spPr>
          <a:xfrm>
            <a:off x="609480" y="0"/>
            <a:ext cx="793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TISH IN NOR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2" descr=""/>
          <p:cNvPicPr/>
          <p:nvPr/>
        </p:nvPicPr>
        <p:blipFill>
          <a:blip r:embed="rId2"/>
          <a:stretch/>
        </p:blipFill>
        <p:spPr>
          <a:xfrm>
            <a:off x="1219320" y="1596960"/>
            <a:ext cx="7619760" cy="503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C:\Documents and Settings\HP_Administrator\Local Settings\Temporary Internet Files\Content.IE5\KCMO3X1V\MCj04352540000[1].wmf"/>
          <p:cNvPicPr/>
          <p:nvPr/>
        </p:nvPicPr>
        <p:blipFill>
          <a:blip r:embed="rId4"/>
          <a:stretch/>
        </p:blipFill>
        <p:spPr>
          <a:xfrm>
            <a:off x="7467480" y="3276720"/>
            <a:ext cx="150048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HP_Administrator\Local Settings\Temporary Internet Files\Content.IE5\TS29IT8V\MCj04057500000[1].wmf"/>
          <p:cNvPicPr/>
          <p:nvPr/>
        </p:nvPicPr>
        <p:blipFill>
          <a:blip r:embed="rId5"/>
          <a:stretch/>
        </p:blipFill>
        <p:spPr>
          <a:xfrm>
            <a:off x="1219320" y="4952880"/>
            <a:ext cx="1828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S IN EGY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70s – with the Egyptian government bankrupt, the British and French took over financial control of the cou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Egyptian monarchs (technically Ottoman viceroys) ruled as puppet le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82 – Egyptian nationalist rebe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France withdrew its troo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Great Britain left in control of Egyp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rd Cromer introduced re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Calibri"/>
              </a:rPr>
              <a:t>De facto </a:t>
            </a: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British protecto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de official in 19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ce came in 192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HP_Administrator\Local Settings\Temporary Internet Files\Content.IE5\TS29IT8V\MCj04057500000[1].wmf"/>
          <p:cNvPicPr/>
          <p:nvPr/>
        </p:nvPicPr>
        <p:blipFill>
          <a:blip r:embed="rId3"/>
          <a:stretch/>
        </p:blipFill>
        <p:spPr>
          <a:xfrm>
            <a:off x="6934320" y="4724280"/>
            <a:ext cx="19555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TISH IN NORTHER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18960" y="13712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d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Area south of Egy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Under Anglo-Egyptian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otton needed for British textile m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Entente Cordiale (190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Great Britain controlled Sud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France controlled Moroc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e-to-Cairo Railro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Idea of Cecil Rh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Would secure Great Britain</a:t>
            </a:r>
            <a:r>
              <a:rPr b="0" lang="ja-JP" sz="24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 dominance in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Never completed – sections missing through modern Sudan and Uga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e-to-Cairo Railway: Crossing over Victoria F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upload.wikimedia.org/wikipedia/commons/e/ee/Victoria5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K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Dark Continent</a:t>
            </a:r>
            <a:r>
              <a:rPr b="1" lang="ja-JP" sz="32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 – racist terminology referred to both the peoples of Africa and their alleged igno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In reality, Africa has always had diverse groups of people with their own unique cultures and hi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vil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i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ge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30 – inva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31 – annex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un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81 – controlled by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d Italy to join the Triple Alliance with Austria-Hungary and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rocc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881 – large part under French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905 and 1911 – nearly sparked a European war between France and 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06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geciras Confer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Germany recognized French rights in Moroc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11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gadir Cri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Germany recognized French protectorate over Morocco in exchange for part of Franc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territory in the Con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96 – controlled by Fr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ali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80s – partly under French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 1800s – largely under French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98 – met Britai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area of control and nearly went to w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ente Cordiale settled British-French disputes i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NC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World War I – 191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rance controlled 3,250,000 square miles in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times the area of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rance ruled 30,000,000 Af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e population of F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File:Flag of France.svg"/>
          <p:cNvPicPr/>
          <p:nvPr/>
        </p:nvPicPr>
        <p:blipFill>
          <a:blip r:embed="rId3"/>
          <a:stretch/>
        </p:blipFill>
        <p:spPr>
          <a:xfrm>
            <a:off x="3962520" y="4724280"/>
            <a:ext cx="27432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File:Togo Deutsches Koloniallexikon, Verlag von Quelle &amp; Meyer Leipzig.jpg"/>
          <p:cNvPicPr/>
          <p:nvPr/>
        </p:nvPicPr>
        <p:blipFill>
          <a:blip r:embed="rId1"/>
          <a:stretch/>
        </p:blipFill>
        <p:spPr>
          <a:xfrm>
            <a:off x="4495680" y="388620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50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RM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040" y="10666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oland (now Togo and Gh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oons (now Cameroon and Nige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west Africa (now Namib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 Africa (now Burundi, Rwanda, and Tanzan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ALI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82-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itrea (along the Red S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aliland (along the Indian Ocean, part of today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omal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ated in attempt to conquer Abyssinia (Ethiop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n Tripoli from Ottoman Tu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008.JPG"/>
          <p:cNvPicPr/>
          <p:nvPr/>
        </p:nvPicPr>
        <p:blipFill>
          <a:blip r:embed="rId1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File:LocationDRCongo.svg"/>
          <p:cNvPicPr/>
          <p:nvPr/>
        </p:nvPicPr>
        <p:blipFill>
          <a:blip r:embed="rId2"/>
          <a:stretch/>
        </p:blipFill>
        <p:spPr>
          <a:xfrm>
            <a:off x="3657600" y="411480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3" descr="004.JPG"/>
          <p:cNvPicPr/>
          <p:nvPr/>
        </p:nvPicPr>
        <p:blipFill>
          <a:blip r:embed="rId3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GI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520" y="91404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ium gained control of Congo (Congo Free State) from King Leopold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opold was infamous for the cruelty of his rule in the Con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go Free State (today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Democratic Republic of Con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 times the size of Belg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of uran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UGUESE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imperialism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rtugal gained African territory and led the early trans-Atlantic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zamb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554280" cy="2743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6705720" y="5943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rtuguese territory in Africa, 1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NISH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990360"/>
            <a:ext cx="2667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had very few possessions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 of Moro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o de 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o Mu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File:Saharaoccidentales.svg"/>
          <p:cNvPicPr/>
          <p:nvPr/>
        </p:nvPicPr>
        <p:blipFill>
          <a:blip r:embed="rId1"/>
          <a:stretch/>
        </p:blipFill>
        <p:spPr>
          <a:xfrm>
            <a:off x="3171960" y="1152360"/>
            <a:ext cx="59720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NS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time of the First World War (19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2 independent African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yssinia (Ethiop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Ruled by dynasty stretching back to at least the 13</a:t>
            </a:r>
            <a:r>
              <a:rPr b="1" lang="en-US" sz="2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Last emperor was Haile Selassie, deposed in 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Home to Ethiopian Orthodox Christian Church (strongly tied to Egyptian Coptic Chur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bri"/>
              </a:rPr>
              <a:t>Formed by freed slaves under auspices of the United States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16858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HP_Administrator\Local Settings\Temporary Internet Files\Content.IE5\KCMO3X1V\MPj04278090000[1].jpg"/>
          <p:cNvPicPr/>
          <p:nvPr/>
        </p:nvPicPr>
        <p:blipFill>
          <a:blip r:embed="rId1"/>
          <a:stretch/>
        </p:blipFill>
        <p:spPr>
          <a:xfrm>
            <a:off x="6172200" y="3505320"/>
            <a:ext cx="2743200" cy="20224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Y OF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8960" y="18288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 – not a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 is three times larger tha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ern Africa –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-to-southern Africa – diverse climates and top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led to the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mble for Afric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European nations controlled the most land in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led British imperialism in Af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frican nations were left independent at the time of World War 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IGN HISTORY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896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Greeks controlled Egypt after conquest by Alexander the Gre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tolemaic dynas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Romans ruled all areas along the Mediterranean coastline, including nor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editerranean – </a:t>
            </a:r>
            <a:r>
              <a:rPr b="1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man lake</a:t>
            </a:r>
            <a:r>
              <a:rPr b="1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Arab traders converted many Africans to Islam from the 7</a:t>
            </a:r>
            <a:r>
              <a:rPr b="0" lang="en-US" sz="3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Source of slaves for the Americas from the 17</a:t>
            </a:r>
            <a:r>
              <a:rPr b="0" lang="en-US" sz="3000" spc="-1" strike="noStrike" baseline="30000">
                <a:solidFill>
                  <a:srgbClr val="595959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 cent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But little foreign interest in the interior of sub-Saharan Afric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ING UP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d-180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ssionaries and explorers sparked foreign interest in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HP_Administrator\Local Settings\Temporary Internet Files\Content.IE5\KCMO3X1V\MCj04075840000[1].wmf"/>
          <p:cNvPicPr/>
          <p:nvPr/>
        </p:nvPicPr>
        <p:blipFill>
          <a:blip r:embed="rId3"/>
          <a:stretch/>
        </p:blipFill>
        <p:spPr>
          <a:xfrm>
            <a:off x="6095880" y="4495680"/>
            <a:ext cx="17272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VID LIVINGSTONE (1813-187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5280" y="121932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cottish miss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41-1873 – lived in central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d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Named Lake Victoria after the British qu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ed many Africans to Christia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ote books on Africa which piqued foreig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1871 – reported 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lost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Henry Stan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Livingstone, I presume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upload.wikimedia.org/wikipedia/commons/d/d5/David_Livingstone.jpg"/>
          <p:cNvPicPr/>
          <p:nvPr/>
        </p:nvPicPr>
        <p:blipFill>
          <a:blip r:embed="rId3"/>
          <a:stretch/>
        </p:blipFill>
        <p:spPr>
          <a:xfrm>
            <a:off x="6858000" y="411480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NRY STANLEY (1841-19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89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elsh-American 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nd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Dr. Livingstone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. Livingstone, I presume?</a:t>
            </a: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Explored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go 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e Tangany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ke Vict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Worked with Belgium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King Leopold II and his African colonization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ational Africa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upload.wikimedia.org/wikipedia/commons/thumb/3/36/Henry_Morton_Stanley.jpg/225px-Henry_Morton_Stanley.jpg"/>
          <p:cNvPicPr/>
          <p:nvPr/>
        </p:nvPicPr>
        <p:blipFill>
          <a:blip r:embed="rId3"/>
          <a:stretch/>
        </p:blipFill>
        <p:spPr>
          <a:xfrm>
            <a:off x="0" y="167652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File:Stanley and Livingstone.jpg"/>
          <p:cNvPicPr/>
          <p:nvPr/>
        </p:nvPicPr>
        <p:blipFill>
          <a:blip r:embed="rId4"/>
          <a:stretch/>
        </p:blipFill>
        <p:spPr>
          <a:xfrm>
            <a:off x="5181480" y="3200400"/>
            <a:ext cx="280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upload.wikimedia.org/wikipedia/commons/thumb/5/50/Bundesarchiv_Bild_183-R30019%2C_Dr._Carl_Peters.jpg/180px-Bundesarchiv_Bild_183-R30019%2C_Dr._Carl_Peters.jpg"/>
          <p:cNvPicPr/>
          <p:nvPr/>
        </p:nvPicPr>
        <p:blipFill>
          <a:blip r:embed="rId1"/>
          <a:stretch/>
        </p:blipFill>
        <p:spPr>
          <a:xfrm>
            <a:off x="7429680" y="3733920"/>
            <a:ext cx="1714320" cy="241920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004.JPG"/>
          <p:cNvPicPr/>
          <p:nvPr/>
        </p:nvPicPr>
        <p:blipFill>
          <a:blip r:embed="rId2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L PETERS (1856-191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8960" y="1219320"/>
            <a:ext cx="655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German explorer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Organized and propagandized for Germany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colonial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nded the Society for German Col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Acquired German East Africa (modern-day Tanzan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onvinced Otto von Bismarck to take over German East Africa and increase Germany</a:t>
            </a:r>
            <a:r>
              <a:rPr b="0" lang="ja-JP" sz="3200" spc="-1" strike="noStrike">
                <a:solidFill>
                  <a:srgbClr val="595959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 colonies i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008.JPG"/>
          <p:cNvPicPr/>
          <p:nvPr/>
        </p:nvPicPr>
        <p:blipFill>
          <a:blip r:embed="rId3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004.JPG"/>
          <p:cNvPicPr/>
          <p:nvPr/>
        </p:nvPicPr>
        <p:blipFill>
          <a:blip r:embed="rId1"/>
          <a:stretch/>
        </p:blipFill>
        <p:spPr>
          <a:xfrm>
            <a:off x="6566040" y="0"/>
            <a:ext cx="2577960" cy="3137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CIL RHODES (1853-190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1430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British businessman and politician in sou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Made a fortune from African diamond m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Established South African Comp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and later became Rhodesia (Zimbabw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Prime minister of Cape Colony (1890-189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anted British control over South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anted Cape-to-Cairo Railro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alibri"/>
              </a:rPr>
              <a:t>Architect of British imperialism in southern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eat Britain became leading colonial power in souther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008.JPG"/>
          <p:cNvPicPr/>
          <p:nvPr/>
        </p:nvPicPr>
        <p:blipFill>
          <a:blip r:embed="rId2"/>
          <a:stretch/>
        </p:blipFill>
        <p:spPr>
          <a:xfrm>
            <a:off x="0" y="4152960"/>
            <a:ext cx="12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22:21:44Z</dcterms:created>
  <dc:creator>Student Handouts, Inc.</dc:creator>
  <dc:description/>
  <dc:language>en-US</dc:language>
  <cp:lastModifiedBy>Mark Leavins</cp:lastModifiedBy>
  <dcterms:modified xsi:type="dcterms:W3CDTF">2012-12-24T04:17:24Z</dcterms:modified>
  <cp:revision>40</cp:revision>
  <dc:subject>World History - Global Studies</dc:subject>
  <dc:title>Imperialism and the Scramble for Africa PowerPoint Presentation in PPT Format</dc:title>
</cp:coreProperties>
</file>